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music.wav" ContentType="audio/x-wav"/>
  <Override PartName="/ppt/media/image3.wmf" ContentType="image/x-wmf"/>
  <Override PartName="/ppt/media/image1.wmf" ContentType="image/x-wmf"/>
  <Override PartName="/ppt/media/CLICKER.WAV" ContentType="audio/x-wav"/>
  <Override PartName="/ppt/media/image2.wmf" ContentType="image/x-wmf"/>
  <Override PartName="/ppt/media/CNNTONE.WAV" ContentType="audio/x-wav"/>
  <Override PartName="/ppt/media/CLICKER(1).WAV" ContentType="audio/x-wav"/>
  <Override PartName="/ppt/media/BUTTON1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F54-C914-4A5B-A8EE-21EAC2B3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A3C-8324-458B-8504-8B16AA60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C05-BA43-4FD0-B1CC-C533C300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CC5-2711-4BDB-9504-460A36A6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5944-6C31-47C9-9698-B20FD9D8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8BCB-6B60-4EE3-A6B7-2026EFDE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BAFA-FACD-4890-B426-E15782FF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1F09-C6DC-4AE1-AB18-9B35B09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6582-35B9-4A68-BE5C-0B8AF801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5FD5-F4CA-4410-9FBE-DF1F9AF0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C1E0-3769-4EA7-B3A0-A8B0AA66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461-DFC8-487C-88C5-DAD38E93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582D-6BFC-4E99-9AF5-D5CB5F77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B036-08BC-498C-8A21-688AAE11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A91D-FA6B-4FA7-974B-C0379465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6E3C-31DB-4DFC-85DD-447C07D4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A764-A6B8-4876-9908-96D0C67A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8F4-93C3-477D-80EF-E4D79EF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97F-ABF9-451F-82B2-AA8F2D6D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A37-46C5-4566-AC11-EB834A50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175-5220-41B6-BAD8-E58B5F30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08A-A5F6-4DEA-8CA0-B3526EC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1C2-0A01-4865-AF99-E43B612D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6BC-3763-4244-A8AA-424A8F9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54BF-C1F6-445C-B065-02E3115FD70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D6CE-62A8-4B82-8D0C-13FCE899D6F0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LICKER.WAV"/><Relationship Id="rId3" Type="http://schemas.openxmlformats.org/officeDocument/2006/relationships/audio" Target="../media/CLICKER(1)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BUTTON1.WAV"/><Relationship Id="rId3" Type="http://schemas.openxmlformats.org/officeDocument/2006/relationships/audio" Target="../media/BUTTON1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LICKER.WAV"/><Relationship Id="rId3" Type="http://schemas.openxmlformats.org/officeDocument/2006/relationships/audio" Target="../media/CLICKER.WAV"/><Relationship Id="rId4" Type="http://schemas.openxmlformats.org/officeDocument/2006/relationships/audio" Target="../media/CLICKER.WAV"/><Relationship Id="rId5" Type="http://schemas.openxmlformats.org/officeDocument/2006/relationships/audio" Target="../media/CLICKER.WAV"/><Relationship Id="rId6" Type="http://schemas.openxmlformats.org/officeDocument/2006/relationships/audio" Target="../media/CLICKER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134136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ساد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2890800"/>
            <a:ext cx="7777440" cy="33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9999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الحركة والطاقة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9999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260280"/>
            <a:ext cx="6985080" cy="1008000"/>
          </a:xfrm>
          <a:custGeom>
            <a:avLst/>
            <a:gdLst>
              <a:gd name="textAreaLeft" fmla="*/ 118800 w 6985080"/>
              <a:gd name="textAreaRight" fmla="*/ 6866280 w 698508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1496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035" y="21600"/>
                </a:lnTo>
                <a:arcTo wR="3600" hR="3600" stAng="10800000" swAng="5400000"/>
                <a:lnTo>
                  <a:pt x="1496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6600cc"/>
              </a:gs>
              <a:gs pos="100000">
                <a:srgbClr val="9999ff"/>
              </a:gs>
            </a:gsLst>
            <a:lin ang="8100000"/>
          </a:gra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كَيْفَ أحَدِّدُ مَوْقِعَ الشَّيْء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844640"/>
            <a:ext cx="70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هُوَ مَكانُ وُجودِ الشَّيْءِ بِالنِّسْبَةِ لشَيْءٍ آخَرَ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يُبَيِّنُ لَنَا ما إذا كانَ الشَّيْءُ قَريباً مِنَ شَيْءٍ آخَرَ أَمْ بَعيدًا عَنْهُ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2889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4112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كَما يُبَيِّنُ لَنَا الْمَوْقِعُ ما إذا كانَ الشَّيْءُ في الأَعْلى، أَمْ في الأَسْفَلِ، أَم إِلَى الْيَمينِ، أمْ إلى الْيَسارِ مِنْ شِيْءٍ آخَرَ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4181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765000"/>
            <a:ext cx="83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كَيْفَ تَتَحَرَّكُ الأَشْياءُ؟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طُرُقٍِ عِدَّةٍ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4104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249228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َحَْركَةَ هِيَ تَغَيُّرُ مَوْقِعَ الشَّيْء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692280"/>
            <a:ext cx="8207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َحرَّكُ الأَشْياءُ فِي خَطٍّ مُسْتَقِيمٍ إلى الأَمامِ أَوْ إِلَى الْخَلْفِ أَوْ في شَكْلٍ دائِريّ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حَركُ الأَشْياءُ أيْضًا فِي خَطٍّ مُتَعَرِّج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سُرْع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بَعْضَ الأَجْسَامِ تَتَحَرَّكُ بِسُرْعَةٍ كَبِير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وبَعْضُهَا يَتَحَرَّكُ بِبُطْء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1520" y="4365720"/>
            <a:ext cx="2664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9:27:28Z</dcterms:modified>
  <cp:revision>43</cp:revision>
  <dc:subject/>
  <dc:title>PowerPoint Presentation</dc:title>
</cp:coreProperties>
</file>